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3E1E-D337-46D6-91D6-A5B587324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3163-8540-4085-B252-F47FAA91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71ED-9D58-409A-A7DD-419ACE95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3855-0B55-4FBD-82C4-9C17691A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8629-7CB9-4FE5-B5FA-9413C168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54F5-0265-44CB-AAE1-2AD41836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BEBD-943F-4617-92B6-048E29FE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D3C3-97F6-4931-B7D7-E8A23621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5C4A-8251-41E5-A161-47528F2B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11A6-3402-45D6-BB0C-F8BD2BA3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ACAE-161C-4F97-AB9D-37400C78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E17C-477A-4C1E-8FFD-FD42B115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4BFE-477A-4F89-B941-1441F17E9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freeplaymusic.com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eb.mit.edu/invent/iow/perkins.html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533520"/>
            <a:ext cx="579132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Kool Aid</a:t>
            </a:r>
            <a:endParaRPr b="0" lang="en-US" sz="5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42" name=""/>
          <p:cNvSpPr/>
          <p:nvPr/>
        </p:nvSpPr>
        <p:spPr>
          <a:xfrm>
            <a:off x="7391520" y="4978440"/>
            <a:ext cx="1752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Sa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3-8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p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Computer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48520"/>
            <a:ext cx="63244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Sound: Free Play Music, </a:t>
            </a:r>
            <a:r>
              <a:rPr b="0" lang="en-US" sz="1800" spc="-1" strike="noStrike" u="sng">
                <a:solidFill>
                  <a:srgbClr val="cc0099"/>
                </a:solidFill>
                <a:uFillTx/>
                <a:latin typeface="Comic Sans MS"/>
              </a:rPr>
              <a:t>Busy Doing Nothing</a:t>
            </a: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, March, 11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Perkins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1066680" y="2666880"/>
            <a:ext cx="5562720" cy="2738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638680"/>
            <a:ext cx="5943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Picture: Lemelson-Mit Program, March, 11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http://web.mit.edu/invent/iow/perkin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2767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urlz MT"/>
              </a:rPr>
              <a:t>Invention: Kool 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It all started in Hastings Nebra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After shipping Perkins product, ”Fruit Smack” (a type of juice) with trouble he made the powder to 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He then called it Kool-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original flavors are, strawberry, lemon lime, grape, orange, and raspbe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In 1953 Kool Aid was with General Foods, and now general foods is with K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b2ff"/>
            </a:gs>
            <a:gs pos="100000">
              <a:srgbClr val="88d8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8bc7"/>
                </a:solidFill>
                <a:latin typeface="Curlz MT"/>
              </a:rPr>
              <a:t>Inventor: Edwin Perk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58bc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8bc7"/>
                </a:solidFill>
                <a:latin typeface="Comic Sans MS"/>
              </a:rPr>
              <a:t>As a child he made many juice 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58bc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8bc7"/>
                </a:solidFill>
                <a:latin typeface="Comic Sans MS"/>
              </a:rPr>
              <a:t>In 1918 he married a girl named Ki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58bc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8bc7"/>
                </a:solidFill>
                <a:latin typeface="Comic Sans MS"/>
              </a:rPr>
              <a:t>At 25, Perkins made a mail-order business called </a:t>
            </a:r>
            <a:r>
              <a:rPr b="1" i="1" lang="en-US" sz="3200" spc="-1" strike="noStrike">
                <a:solidFill>
                  <a:srgbClr val="058bc7"/>
                </a:solidFill>
                <a:latin typeface="Comic Sans MS"/>
              </a:rPr>
              <a:t>Perkins Products 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58bc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8bc7"/>
                </a:solidFill>
                <a:latin typeface="Comic Sans MS"/>
              </a:rPr>
              <a:t>He Later moved the production to Chicago in 19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58bc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8bc7"/>
                </a:solidFill>
                <a:latin typeface="Comic Sans MS"/>
              </a:rPr>
              <a:t>Edwin sadly passed away in 19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88d8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rot="19556400">
            <a:off x="465480" y="302040"/>
            <a:ext cx="739152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66ff"/>
                </a:solidFill>
                <a:latin typeface="Curlz MT"/>
              </a:rPr>
              <a:t>The End!!!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24040" y="2506680"/>
            <a:ext cx="5453280" cy="297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urlz MT"/>
              </a:rPr>
              <a:t>The End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68580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ff"/>
                </a:solidFill>
                <a:latin typeface="Curlz MT"/>
              </a:rPr>
              <a:t>The End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91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92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0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5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4:14:56Z</dcterms:created>
  <dc:creator>install</dc:creator>
  <dc:description/>
  <dc:language>en-US</dc:language>
  <cp:lastModifiedBy>install</cp:lastModifiedBy>
  <dcterms:modified xsi:type="dcterms:W3CDTF">2010-03-18T13:40:58Z</dcterms:modified>
  <cp:revision>10</cp:revision>
  <dc:subject/>
  <dc:title>Slide 1</dc:title>
</cp:coreProperties>
</file>